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0.wmf" ContentType="image/x-wmf"/>
  <Override PartName="/ppt/media/image7.jpeg" ContentType="image/jpeg"/>
  <Override PartName="/ppt/media/image6.png" ContentType="image/png"/>
  <Override PartName="/ppt/media/image3.gif" ContentType="image/gif"/>
  <Override PartName="/ppt/media/image18.jpeg" ContentType="image/jpeg"/>
  <Override PartName="/ppt/media/image17.png" ContentType="image/png"/>
  <Override PartName="/ppt/media/camera.wav" ContentType="audio/x-wav"/>
  <Override PartName="/ppt/media/projctor.wav" ContentType="audio/x-wav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6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CCC3-7750-427D-BFCF-B394A32AC371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242C-B9AA-4FBD-A9DD-788E09A5D6EF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1665-9340-4DFE-9CFD-CADF9CCACB86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DBE7-9C0D-4D77-A3CB-6FAAC5955B5B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3EA-1588-49B7-9A31-3CA1AE1C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0938-11CD-4C2F-B933-7E1298AC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DC94-7F25-4136-812A-EA241843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E42-CB8C-4F95-A089-E693375C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AB40-1E41-47C7-BEEA-9DA5B8C8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EE1C-F475-4967-9BF2-34ABB14A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AEE1-0A80-4130-A325-049D22D2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5712-FF57-4BFB-BCC4-622A3314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7D8E-47FF-4A9A-A3B1-B72F93D1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C9B7-776F-43D0-847C-18368503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353A-8AF2-4CA5-9A0D-20A45D2C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932-6C04-44D0-8628-63BA5E1E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2DAC-6B74-4601-AAC4-DFCD5799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3BA7-A79B-466B-B9F5-4F1F6E8B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9DF4-86B7-4EF1-B5E5-C0C14C78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94A4-FFD0-423E-B942-150202CB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D96D-736F-4FCB-9033-4B53AC16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864-C19D-463C-99D8-83D1085C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AA0-7A17-4A5E-A5EE-B0438AE7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B8C-6651-4922-B682-5EBB5B2D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971-A98C-4890-8109-B56556A8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FCC-0115-4AD4-AC8C-A4CDD274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8AD-5B36-407D-A932-328684DB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D170-5759-4421-8EFB-0FDCBC1A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9EDC-BB47-4C51-BC23-F3058BB9BA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F426-302F-4B67-AA35-0E786B6F2F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arner.org/courses/essential/physicalsci/images/s4.dalton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o/imgres?imgurl=http://www.csvt.qc.ca/patriotes/sciences/scp4/photos_m1/06becquerel.gif&amp;imgrefurl=http://www.csvt.qc.ca/patriotes/sciences/scp4/photos_m1/page1.html&amp;usg=__QGOmXRlne2eTQ2mRo6B79H5nzZY=&amp;h=277&amp;w=242&amp;sz=23&amp;hl=ro&amp;start=3&amp;um=1&amp;tbnid=aD2JVNAV9BnEZM:&amp;tbnh=114&amp;tbnw=100&amp;prev=/images%3Fq%3Dbecquerel%26hl%3Dro%26rlz%3D1R2ADBF_en%26sa%3DN%26um%3D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ro/imgres?imgurl=http://www.patent-invent.com/electricity/images/jj_thomson.jpg&amp;imgrefurl=https://reich-chemistry.wikispaces.com/Mike%2BD.%2BBig%2BTimeline%2Bproject&amp;usg=__mbVQil3pWDTyWF8e7aYZKvz2Azg=&amp;h=310&amp;w=270&amp;sz=17&amp;hl=ro&amp;start=3&amp;tbnid=mta0DJTSHEynRM:&amp;tbnh=117&amp;tbnw=102&amp;prev=/images%3Fq%3Dthomson%26gbv%3D2%26hl%3Dro%26sa%3DG" TargetMode="External"/><Relationship Id="rId6" Type="http://schemas.openxmlformats.org/officeDocument/2006/relationships/image" Target="../media/image9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images.google.ro/imgres?imgurl=http://www.chemheritage.org/classroom/chemach/images/lgfotos/05atomic/rutherford1.jpg&amp;imgrefurl=http://www.chemheritage.org/classroom/chemach/pop/05atomic/rutherford1.html&amp;usg=__YnVDEvkf-GP80LP8lJpp_Mu5W58=&amp;h=424&amp;w=300&amp;sz=41&amp;hl=ro&amp;start=5&amp;tbnid=7SA9jUuZ4KV6kM:&amp;tbnh=126&amp;tbnw=89&amp;prev=/images%3Fq%3Drutherford%26gbv%3D2%26hl%3Dro%26sa%3D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audio" Target="../media/chimes.wav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216400" y="33336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WordArt 26"/>
          <p:cNvSpPr txBox="1"/>
          <p:nvPr/>
        </p:nvSpPr>
        <p:spPr>
          <a:xfrm>
            <a:off x="1403280" y="1125360"/>
            <a:ext cx="7500960" cy="261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TOMUL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E INTRODUCE INTR-O LUME INVIZIBILA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 PARTICOLE SI ENERGII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WordArt 28"/>
          <p:cNvSpPr txBox="1"/>
          <p:nvPr/>
        </p:nvSpPr>
        <p:spPr>
          <a:xfrm>
            <a:off x="785880" y="4786200"/>
            <a:ext cx="4857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of. MARTINI ERIK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2" name="Picture 29" descr="atom"/>
          <p:cNvPicPr/>
          <p:nvPr/>
        </p:nvPicPr>
        <p:blipFill>
          <a:blip r:embed="rId1"/>
          <a:stretch/>
        </p:blipFill>
        <p:spPr>
          <a:xfrm>
            <a:off x="6804000" y="4292640"/>
            <a:ext cx="2133720" cy="1917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6642000" y="1103400"/>
            <a:ext cx="78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Georgia"/>
              </a:rPr>
              <a:t>Fiecare atom este car</a:t>
            </a:r>
            <a:r>
              <a:rPr b="1" lang="ro-RO" sz="29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Georgia"/>
              </a:rPr>
              <a:t>cterizat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Georgia"/>
              </a:rPr>
              <a:t> de două numere: </a:t>
            </a:r>
            <a:r>
              <a:rPr b="1" lang="en-US" sz="2900" spc="-1" strike="noStrike">
                <a:solidFill>
                  <a:srgbClr val="ffff00"/>
                </a:solidFill>
                <a:latin typeface="Georgia"/>
              </a:rPr>
              <a:t>Z şi A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4"/>
              <p:cNvSpPr txBox="1"/>
              <p:nvPr/>
            </p:nvSpPr>
            <p:spPr>
              <a:xfrm>
                <a:off x="3286080" y="1357200"/>
                <a:ext cx="278604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sub>
                      <m:sup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Dreptunghi 3"/>
          <p:cNvSpPr/>
          <p:nvPr/>
        </p:nvSpPr>
        <p:spPr>
          <a:xfrm>
            <a:off x="642960" y="342900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ii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aceluiasi element care au un numar diferit de neutroni se numesc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ZOTO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6072120" y="5000760"/>
                <a:ext cx="170028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5"/>
              <p:cNvSpPr txBox="1"/>
              <p:nvPr/>
            </p:nvSpPr>
            <p:spPr>
              <a:xfrm>
                <a:off x="1428840" y="5000760"/>
                <a:ext cx="1785960" cy="13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3786120" y="5000760"/>
                <a:ext cx="179568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</p:spTree>
  </p:cSld>
  <p:transition spd="slow" advTm="30000">
    <p:blinds dir="horz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Atomii cu acelasi numar de protoni alcatuiesc u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ELEMENT CHIMIC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lementele se  noteaza cu simboluri chimic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-fosfor           Al-aluminiu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-iod                 F-fosfor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-sulf               O-oxigen                                  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-iod                N-azot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-calciu         S-sulf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-oxigen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blinds dir="horz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roprietatile elementelor sunt functii periodice ale sarcinii nucleare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71680" y="1714680"/>
            <a:ext cx="8215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lecand de la acest concept s-a nascut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SISTEMUL PERIODIC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31" name="Picture 7" descr="http://www.didactice.ro/imagini_produse/sistem_periodic.jpg"/>
          <p:cNvPicPr/>
          <p:nvPr/>
        </p:nvPicPr>
        <p:blipFill>
          <a:blip r:embed="rId1"/>
          <a:stretch/>
        </p:blipFill>
        <p:spPr>
          <a:xfrm>
            <a:off x="2357280" y="3643200"/>
            <a:ext cx="4322880" cy="2962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491a"/>
                </a:solidFill>
                <a:latin typeface="Georgia"/>
              </a:rPr>
              <a:t>Atomi,izotopi,elemente chimice,molecule….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Incercam sa le cunoastem, dar ne punem intrebarea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Georgia"/>
              </a:rPr>
              <a:t>ATOMUL NE ESTE PRIETEN SAU     DUSMAN?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blinds dir="horz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eorgia"/>
              </a:rPr>
              <a:t>Atomul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o-RO" sz="4400" spc="-1" strike="noStrike">
                <a:solidFill>
                  <a:srgbClr val="000000"/>
                </a:solidFill>
                <a:latin typeface="Georgia"/>
              </a:rPr>
              <a:t>distrugator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lul atomic a inceput cu bombele atomice.Planeta s-a cutremurat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6 august 1945, prima bomba atomica transportata la bordul bombardierului americanB-29 “Enola Gay” a transformat Hiroshima intr-un morman de ruine fara viata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upa trei zile ciuperca otravitoare a exploziei atomice a crescut deasupra unui alt oras japonez Nagasaki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eorgia"/>
              </a:rPr>
              <a:t>Atomul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o-RO" sz="4400" spc="-1" strike="noStrike">
                <a:solidFill>
                  <a:srgbClr val="000000"/>
                </a:solidFill>
                <a:latin typeface="Georgia"/>
              </a:rPr>
              <a:t>agronom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Pentru a distruge insectele daunatoar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 microorganismele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 care produc pagube semnificative agric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turii se folosesc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radiatiile gam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tfel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, dupa iradierea gam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 cartoful se poate pastra cu succes aproape doi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eorgia"/>
              </a:rPr>
              <a:t>Atomul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o-RO" sz="4400" spc="-1" strike="noStrike">
                <a:solidFill>
                  <a:srgbClr val="000000"/>
                </a:solidFill>
                <a:latin typeface="Georgia"/>
              </a:rPr>
              <a:t>chimist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Radiatiile radioactive reprezinta un mijloc cu adevarat miraculos in mainile chimistului.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Sub actiunea lor se produc metamorfoze uimitoare: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zaharul se transforma in acid, uleiul de ricin se solidifica, pielea devine impermeabilă,benzenul se combina cu clorul dand un insecticid foarte eficace,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parafina se schimbă intr-o substantă asemanatoare ca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iucului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eorgia"/>
              </a:rPr>
              <a:t>Atomul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o-RO" sz="4400" spc="-1" strike="noStrike">
                <a:solidFill>
                  <a:srgbClr val="000000"/>
                </a:solidFill>
                <a:latin typeface="Georgia"/>
              </a:rPr>
              <a:t>inginer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ro-RO" sz="4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ste de ajutor in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Defectoscopia gama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Masurarea lichidului in rezervoare inchis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Determinarea uzurii instrumentelor de taier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Constatarea scurgerilor de gaz din conductele subteran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Verificarea captuselii refractare cu care este captusia gura incalzita a furnalului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Cautarea unor surse de aprovizionare cu apă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Controlul innămolirii porturilor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Neutralizarea sarcinilor electricitatii statice care prezintă pericole de incend</a:t>
            </a:r>
            <a:r>
              <a:rPr b="0" lang="ro-RO" sz="2400" spc="-1" strike="noStrike">
                <a:solidFill>
                  <a:srgbClr val="ffffff"/>
                </a:solidFill>
                <a:latin typeface="Georgia"/>
              </a:rPr>
              <a:t>iu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Am reusit sa deschidem usita spre lumea invizibila din interiorul materiei?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in nou DA!-in 28 august 2009 s-a fotografiat pentru prima data o MOLECULA cu ajutorul unui microscop atomic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blinds dir="horz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96" name="Picture 4" descr="hydrogenani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990720" y="0"/>
          <a:ext cx="7162560" cy="689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7162560" cy="68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2317680" y="0"/>
          <a:ext cx="6826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7680" y="0"/>
                    <a:ext cx="6826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blinds dir="horz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155240" y="1905120"/>
            <a:ext cx="6488280" cy="17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STE POSIBIL SA </a:t>
            </a:r>
            <a:r>
              <a:rPr b="0" lang="ro-RO" sz="3200" spc="-1" strike="noStrike">
                <a:solidFill>
                  <a:srgbClr val="000000"/>
                </a:solidFill>
                <a:latin typeface="Georgia"/>
              </a:rPr>
              <a:t> EXPLORA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 </a:t>
            </a:r>
            <a:r>
              <a:rPr b="0" lang="ro-RO" sz="3200" spc="-1" strike="noStrike">
                <a:solidFill>
                  <a:srgbClr val="000000"/>
                </a:solidFill>
                <a:latin typeface="Georgia"/>
              </a:rPr>
              <a:t> LUME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Georgia"/>
              </a:rPr>
              <a:t> INVIZIBILA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03" name="Picture 8" descr="x8"/>
          <p:cNvPicPr/>
          <p:nvPr/>
        </p:nvPicPr>
        <p:blipFill>
          <a:blip r:embed="rId1"/>
          <a:stretch/>
        </p:blipFill>
        <p:spPr>
          <a:xfrm>
            <a:off x="684360" y="4005360"/>
            <a:ext cx="25192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DA!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 EI AU INCEPUT PROCESUL..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85920" y="1642680"/>
            <a:ext cx="74008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Georgi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J. Dalton deja in1808 explica unele experimente pe baza notiunii de ATOM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H. Bequerel (1896)a descoperit radioactivitatea,  emiterea de particule de catre atomi. 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J. J. Thomson(1897) a identificat ELECTRONUL  si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 descris atomul ca o sfera alcatuita din particule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ncarcate electric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06" name="Picture 12" descr="Vedeţi imaginea la dimensiunea complet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1628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06becquere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2924280"/>
            <a:ext cx="952560" cy="1085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jj_thoms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4221000"/>
            <a:ext cx="971640" cy="111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7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900000" y="549360"/>
            <a:ext cx="457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*Rutherford (1908) a realizat modelul planetar al atomului pentru care a primit Premiul Nobel, iar in 1911 a descoperit PROTONU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*Niels Bohr(1913) a imaginat atomul ca fiind asemanator sistemului s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Heisenberg si colaboratorii in 1930 au propus un model atomic in care e</a:t>
            </a:r>
            <a:r>
              <a:rPr b="1" lang="ro-RO" sz="1800" spc="-1" strike="noStrike">
                <a:solidFill>
                  <a:srgbClr val="000000"/>
                </a:solidFill>
                <a:latin typeface="Arial Black"/>
              </a:rPr>
              <a:t>le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tronii sunt plasati pe anumite nivele  energeti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*In  1932  Chodwich  a identificat  NEUTRON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E. Rusko (1986)a inventat primul microscop elect</a:t>
            </a:r>
            <a:r>
              <a:rPr b="1" lang="ro-RO" sz="1800" spc="-1" strike="noStrike">
                <a:solidFill>
                  <a:srgbClr val="000000"/>
                </a:solidFill>
                <a:latin typeface="Arial Black"/>
              </a:rPr>
              <a:t>ro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ic, cu care se pot studia atom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8" descr="hm00363_"/>
          <p:cNvPicPr/>
          <p:nvPr/>
        </p:nvPicPr>
        <p:blipFill>
          <a:blip r:embed="rId1"/>
          <a:stretch/>
        </p:blipFill>
        <p:spPr>
          <a:xfrm>
            <a:off x="6794640" y="4724280"/>
            <a:ext cx="2349360" cy="235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rutherford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476280"/>
            <a:ext cx="847800" cy="1200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bohr"/>
          <p:cNvPicPr/>
          <p:nvPr/>
        </p:nvPicPr>
        <p:blipFill>
          <a:blip r:embed="rId4"/>
          <a:stretch/>
        </p:blipFill>
        <p:spPr>
          <a:xfrm>
            <a:off x="5724360" y="1700280"/>
            <a:ext cx="924120" cy="112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Vedeţi imaginea la dimensiunea completă"/>
          <p:cNvPicPr/>
          <p:nvPr/>
        </p:nvPicPr>
        <p:blipFill>
          <a:blip r:embed="rId5"/>
          <a:stretch/>
        </p:blipFill>
        <p:spPr>
          <a:xfrm>
            <a:off x="5867280" y="3068640"/>
            <a:ext cx="619200" cy="762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Vedeţi imaginea la dimensiunea completă"/>
          <p:cNvPicPr/>
          <p:nvPr/>
        </p:nvPicPr>
        <p:blipFill>
          <a:blip r:embed="rId6"/>
          <a:stretch/>
        </p:blipFill>
        <p:spPr>
          <a:xfrm>
            <a:off x="5796000" y="4005360"/>
            <a:ext cx="609480" cy="761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RuscoElmer"/>
          <p:cNvPicPr/>
          <p:nvPr/>
        </p:nvPicPr>
        <p:blipFill>
          <a:blip r:embed="rId7"/>
          <a:stretch/>
        </p:blipFill>
        <p:spPr>
          <a:xfrm>
            <a:off x="5796000" y="4941720"/>
            <a:ext cx="714240" cy="990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8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Georgia"/>
              </a:rPr>
              <a:t>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Georgia"/>
              </a:rPr>
              <a:t>ATOMUL,cea mai mica particola care mai pastreaza proprietatile elementelor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377120" cy="25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este scindat numai prin procedee fizice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articipa efectiv in procesele chimice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Georgia"/>
              </a:rPr>
              <a:t>are o structura complexă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18" name="Picture 4" descr="atom315"/>
          <p:cNvPicPr/>
          <p:nvPr/>
        </p:nvPicPr>
        <p:blipFill>
          <a:blip r:embed="rId1"/>
          <a:stretch/>
        </p:blipFill>
        <p:spPr>
          <a:xfrm>
            <a:off x="3143160" y="4500720"/>
            <a:ext cx="3071880" cy="19843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blinds dir="horz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77"/>
          <p:cNvSpPr txBox="1"/>
          <p:nvPr/>
        </p:nvSpPr>
        <p:spPr>
          <a:xfrm>
            <a:off x="1116000" y="0"/>
            <a:ext cx="483876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cepem sa cunoastem structura atomului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Picture 23" descr="nedenumit777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171440" y="0"/>
            <a:ext cx="6801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6:41:23Z</dcterms:created>
  <dc:creator>Personal</dc:creator>
  <dc:description/>
  <dc:language>en-US</dc:language>
  <cp:lastModifiedBy>user</cp:lastModifiedBy>
  <dcterms:modified xsi:type="dcterms:W3CDTF">2010-05-25T21:57:59Z</dcterms:modified>
  <cp:revision>83</cp:revision>
  <dc:subject/>
  <dc:title>Atomul .Structura atomulu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